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76DB-EC65-48D9-AAB9-862D9A4E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2E6-92A9-4701-AFCE-2F3986B6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BE1DD-79A0-4EB1-8B23-9A9A0F81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5D94D-CB22-436F-B65B-7B133148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BBE8E-3CCD-46D0-BED9-D82ED6C6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C0A0F-06E1-49C4-850D-F8FC8DE3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A1B48-FBC1-47BC-A6C3-B83F00F9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D2C7D-215B-409F-8876-89AC7D70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FCC54-0D9A-46FD-971B-E30755BD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B6AB3-6E69-4668-B66E-C7DA6117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E1F42-A701-42C0-B99C-FDA95307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8804F-BAFA-4BAD-AE35-42494E07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796-27CD-4F86-9F68-A065D8E2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09A2A-A970-4A28-9EE1-6C171D6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78B98-23EE-4CA5-8FA4-A955E07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6FD3C-CB69-4200-8EA3-7337E959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2B283-6FA0-4BCA-A1C4-DF18872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F7784-5F89-4B22-BF5E-59F4ED96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11E4B-FF74-48F3-8C20-2BD679B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595CD-8656-4BCA-A6A1-4F45EAB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DE9BF-9B7C-46AB-9BF9-81C246E2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E814B-AE42-48A2-AD66-68A1828B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32FEC-231F-4E44-A054-AED4B30EE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A05-EF11-47B3-BAAF-CE4BFF12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D3E80-8B55-4E7C-89C3-F5CFAF9C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6E47A-AAE0-40E3-B657-24EA923F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D7C88-9733-4F2C-8221-CE0AE5B5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2D17C-293B-4707-8AD7-722D8183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2D3F1-17ED-4453-9805-75F6937D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0DDF4-DE39-4155-AA1A-68881DA4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2D885-2899-418B-AF57-6F8B13A2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93696-0308-43BB-A82E-F417F44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D7922-5528-48AE-BBEF-5905269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C8818-EBA9-448B-9727-21DDA46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1CE-2F30-40F4-8C65-8064DEB8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59D6-9BA6-40B4-83E1-A859E4E2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7FDDC-EADB-408E-852E-42704E350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27BDF-5A25-4DBF-B336-902399D6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3A0E1-E298-4047-8BC5-6D1AD2854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EDD8B-A53A-49A3-85CE-1B85E2F7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EBC4D-8042-4E77-88B0-F3CA331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1C073-58BC-4C7B-9C62-DC2406E4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6B118-DBE8-4A3D-B635-DCB5FC51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A5FAD-D226-4C8C-982E-6A25F30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32E74-22F2-44F1-8385-3DEA7CDB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8521-4958-49F8-9BF7-1D832D0F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E91FE-9834-40A5-99A4-F0D1F2DC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B9E8E-5452-45C6-911B-874D5EC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87909-03EF-4CE3-9C45-459FD0EC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4A192-F43B-4A21-8A41-A2C126F4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007FB-82B2-4C8F-8C2C-0C6C8A3C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00044-1B57-46BF-85C7-635C7B7E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D392A-EF68-49A9-BEDF-6A0D064C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2A4FF-C985-47AF-9D1E-2EEF4348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2EBCB-D049-4BC3-B360-D3E27ACB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22055-2920-481C-9D11-F37D3B88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B71-2B75-4083-B793-6AEEBF37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368AE-E2E5-4ADE-8BF2-12A408AD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B907C-7274-42FF-BBEE-C21C9627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C7039-128F-42D8-B8F1-C8B4BC0E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F42DE-4350-4E70-8AC2-FE4C54F6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A529E-5B25-4D87-8F72-AB6F97F5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5E169-D718-4504-88F2-95D682AC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D2917-EDC4-4B3D-8745-8C914AA5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E3640-AE37-49FB-BB10-E7360E50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A28DA-F43D-4442-8F2A-12CEFFCA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77F72-B46C-418E-A54C-A5E4E1E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367B-C27A-4F80-99D6-6065FB54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4F70D-0303-4351-B5A1-A12A4AA8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22D67-7A55-44B5-ACCE-DF4AA5E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7F9EC-D94A-49D1-B15B-2C85D6A0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37CF1-3D69-4323-B219-7B61942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CE5FF-3C19-4B9E-9EC1-F71F756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7AABD-23C4-407D-A48A-45C1E13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6164A5-E2CF-4ABA-BFDB-9DC8A67F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AC7D4-350F-4F5B-A7CD-186ECBB3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8C352-ED03-4F49-8AA4-AECADAEE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69E959-2D97-4301-81FF-988C2724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14F3-2EE7-4F33-A43B-67472D6B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7A437-0FD3-47B2-BA0D-3209E950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4936D-F023-4397-A8AF-E519A803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B9D52-82C5-4E45-8F98-4EB9B5FA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EAD7F7-0E31-4C1E-BFCE-1272FB64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F4A674-A0D4-4EB4-A5E9-11FDB289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3AEAC-7C12-43BC-8388-1169799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CA77F3-E7FC-484B-BFB1-4C787ECA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61294-CF97-4F13-988F-000BE2D3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287EB7-4785-4771-A262-E6C9DC9D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2C35D-6EF8-4329-B16F-5B1103FD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1678-A64C-4D41-B926-50CA8C2A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08829-CA7A-4787-A22E-0C031050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5163C-13D6-43D8-A446-C69652AB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45252-8BB3-4CC3-A498-5640255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79940-9FF6-4BEA-993E-99D11FDF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40BD2-B006-405F-BC19-953BCAB5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C5E9C-7FF7-4194-89B9-643A8005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EB927-AAC4-4DA3-B8A2-48122D9E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DBA59-52F7-40DA-83A7-41158BB6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420262-C981-42BB-BF49-7DC41CE4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9FB8A-E57C-4ED6-9DD2-FFA7C827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78F4-5511-4CC1-B212-762DA55C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7B064-DDB7-462F-8F99-1C561AAD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244273-3D69-4FD1-9AF3-B83E9D01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574D07-76F4-4DAB-AC79-5BA0AA9D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91BE67-660E-419E-8E5E-6D753044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FF974D-B1CB-4D7F-89AD-974F4B16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CC3CA-AC9E-41EB-AF45-B0048454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2710C-08EA-44F1-9E66-66C8541A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542B6-A86E-42EF-B4FA-00D24FC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FB2CB-C059-441E-8056-EB5DC256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3221F-BF34-4ACA-957B-F68D8378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947-D8E3-45B0-8F07-23922832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34A3-15EA-4598-8097-E561ADB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28DA7A-DAA5-4AC4-9857-3A990911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64B9A-45E7-453A-A1CA-91BFBEDB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6F1DC2-125F-4F51-90C1-68FB62C2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EF08D-E1EE-45D1-BB97-61AA482D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CC442-AEA4-4BDC-B857-5D0D744F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E8BA4-5D0A-47D6-97B6-65A7C64E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52680-CC08-4B1A-89D7-845A75F5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FDD57-0CA0-4858-B15A-078BFC19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185FC-8D10-4C4C-90A6-FA2D1477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A6FEB-4C6B-4CE2-81D4-6E6746DA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B3CC-6AC0-4BB5-91D5-E2CF2CB1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CEC28-4507-44D7-8F85-DA578724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178F3A-348D-4212-854E-331E6898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1B059-4F6A-449A-AD3D-35E12B1C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400DBC-9ACB-4D3A-8D66-96B75CDE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ED7F3B-3726-444F-95CD-81020D58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7D3C4-9214-469C-BAFC-BC24D327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D4F4FB-6977-4C13-AC5A-D51C029B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DFBD2-3F4A-4B21-9A0A-7C85947C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AEB25C-3E22-4F24-878E-CFE93886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F41DB-D3C3-41B1-8219-A6B85C70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91F7-5F92-4CB0-97C1-F0DECF6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6374DB-A045-42B4-9EEE-0581F521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232DB-4A41-4BF9-958D-46541EFB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D36E53-637D-4ED8-8AF0-8660C1C9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FA059F-9F8E-4D56-9E9A-A211AF9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E7DB81-4E17-43DA-A754-B7EBCFC3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52DFBD-9E9F-46C9-8B4F-F657901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6D079-9499-43D3-9BDD-FA9A126D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3BFC89-19A7-4D62-95E2-4868D5F9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9DC52-5017-41ED-A4C5-92FF16D2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6337F3-79B4-4F3F-9B9F-E6FFD64B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0B8E-E70C-4C18-9466-3771BF89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6C07A4-A4DD-442F-B8D1-F9C800B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3DC13-6129-4AD6-AA5C-80BE4AD3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6EF26-C3E8-4BFF-8427-06F249C5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E236B-D4E6-4DD2-98C2-61613CB3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D17E44-926D-440C-9205-6024AE1F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D95A4-C07B-4D6B-9A98-44BEFD3F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4488E-E3FC-40F7-8026-C8E32D2D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55D48-A40D-4D3D-8780-53C36294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77985-2A05-4619-8AA4-DFC0BC13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849385-3F14-4994-B594-1841E8AE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C3B7-D7F9-4497-BE85-EBA71A5E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C897AD-9431-47FC-AEA5-8096C874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C234D-142B-4F2D-8790-95C3275A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65784-DFE6-4E41-A319-648AEB6C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F8C168-F6EC-4B8A-A63E-5A17DFC9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8DF9A-D8E8-452E-A392-C5E8CC36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B74E88-92F1-48C0-A2C8-E6C591BB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E9E40F-2056-4D7D-8DB9-57BB025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F8604A-4232-43D4-8153-C3FF6AE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3699C5-6A47-4E92-ADCA-DABD8359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799190-CE83-4566-AC9A-0C97E419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1422-2AF5-4E8F-BEB7-E579C4D0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DF6FE1-2D53-4E33-9CE4-BD948540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338EC9-17FB-4F14-958E-9C20204D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B07725-90B2-449F-8109-4CEC149D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DE430-CC4A-4FB3-83EE-39E2CCFF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007B-5E33-406B-B4F3-929C7597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6BE7-D358-4C95-8C28-5AC5CF76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EE09D-04B6-486F-BF6C-AD89B696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075-630C-4AC3-A87E-100C6F0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8CB22-FE7C-491A-8565-90F01BD0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262F-5AEF-44D8-8924-9233CFC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642C4-26EB-4C32-BE5B-52961D36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3287-36A8-407C-83DD-8650367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DF64-2BE9-45F7-8D6A-7DDF3C72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FC924-15D4-46EA-B791-498E906F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1C0D-6E59-4CC6-842E-D759F1B7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05FF-1D23-406B-BD2C-B6282DA3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F6B7F-9C70-4058-A9E9-3ACB42DE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3299-3DEB-4790-AEC3-131C5D03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D65-CA0D-413C-A0B1-4A720007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79ED-1DDD-4E1B-A5D9-8DACA2B0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C7BF-47E7-43E3-BD40-D332AE8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1169-EBB8-42C0-A9AD-F0491858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DE084-C734-45AF-B802-BBF16C3D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ADF5-6458-4C2C-8246-CC850C57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ACBE-9A88-4CBD-8FBD-842007D0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73032-71D2-4815-A423-8CDE6F51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8C47-FEFC-4809-B13B-72F7049C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1CF0-D51F-4D9F-9732-8F241C7AE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6A5E-4A57-499A-A81B-C943EF19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439-9A8A-46C0-9A53-2109EEE0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5A76-A2DF-4DA6-9CAC-82BA7F63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6603-8664-407B-B7D8-E1F66009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4E6C-D19A-42A0-85D9-2CB6F240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8C48C-4134-4811-99EB-368517A6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292A6-1D87-431E-AA51-CD00A994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F268A-5040-4242-94FE-E36417DC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5FFA-83A0-43B4-AC55-DFE77F3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8E8E7-24D5-4532-9BBB-1A6EAEC7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E7A50-4944-4D30-937B-F17BCF16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202C1-0AF6-4CC9-946E-3873F70B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286-E797-4531-B88A-141E139E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5657-6BF8-49AF-B311-D0810014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BB815-9C11-4EAA-85A9-70414B6B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24D7F-B1F9-431C-B9D7-0A49EF13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3690D-5F70-49B4-B734-3A89F57B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C7962-7C0A-433E-839F-542ECBA2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11306-96C0-4750-B567-4203C7BF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BF35-D691-4EA3-8152-6230CBA7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7A6F-BFF3-4649-9059-7D43A9F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0829E-B515-45D7-9B33-10FCA73D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AA3E-AAEF-45CB-8355-84444A9E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29A-CEEF-4076-BF5F-AA7FA17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07874-9512-4DE6-B075-388016BD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AAAEC-F3F4-42FA-8CC7-971D2346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775F-C039-451A-BB87-34E44182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5F703-73BE-4401-AFDB-84A6801A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37492-9283-4565-93A3-237BACA0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30832-7D53-424E-8430-5CA610E8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02E1B-750A-408E-88C5-7441DAB4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E27E0-276E-4808-9468-7C026F0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10A95-F1F8-41D2-AF9E-DE3A2A0E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3415F-E038-46B0-ADFF-826DAB7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6BE-97A4-4BEF-81BF-1698F4AC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0C341-FA7C-46D1-88AE-3EBBF8D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F43BE-24AA-4AD7-AC61-4BF930FF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5C12-13CA-47AF-BCA2-887F269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9B1B5-5AE3-4BE2-B664-9014F07A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0F5B7-3164-4130-B14E-D6067C9E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A9A32-014F-45A6-91D2-1FF58139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4DF90-03FE-4887-85B8-1CCD7F89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538D0-0CF4-47E5-9FB9-1F0C277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872B-8D17-4254-9F18-2F65CAB1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FED0-EE02-4B02-BF0B-F016CAE5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8ED-25A9-4616-B36F-74EE065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B4624-C1F2-45B0-807D-2D68AAFD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533D9-4AA3-487A-8E42-2BA45FF2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5A69B-92DE-443D-90A0-742EF624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9BAC5-4052-45AD-92EA-26EA0ED7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3CEE5-9AC3-4A1D-A8B1-12CC338C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29F93-A275-48A1-892C-5040DC3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B464-D3E8-4832-BC36-BA82026F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2FE0F-4234-4644-A49C-61227575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49F08-1569-4765-810F-50BB0B00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E50A4-0EEA-4EAF-A312-3471314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1AC6-B4B0-44DA-8C45-89CFD7B93D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E8EA-5A81-4C4C-B5BA-1B28CA900D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9970-2FF3-4AF6-B330-D1DADF521B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2BBD-65A8-4D47-B5F9-6D5A065FD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ECBF-CA6B-4B55-8B32-21B13BB37F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A27B-B06D-4074-9F58-2A1C8A4B7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AE7A-1E97-4D10-B100-A4EF829E2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7F32-8F11-4897-A83D-5A82561D2C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0452-525D-4BFC-9D6E-8A5C3CD5FE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5739-DFC8-48E7-A90A-EE79611F6D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85C4-D2D8-427F-865B-7718372932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1BF2-D8DA-4179-BCFE-5983132697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353D-C51A-49D9-9EE5-3A14568B50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2904-765C-47CA-AF5E-394656078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74DB-7852-440A-828F-B9B79C3FE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6329-11FF-42B6-9E9D-816BAC03D5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329A-93BE-4DD3-90E8-FCFF50C24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35EF-F380-4665-B3C0-5D42A53C8D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3074-019D-49AE-A55B-FE403B784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9862-E6B7-43B1-BDFD-FADF5D747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DADB-0D87-4E10-891A-CA478E17BF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431F-BA9D-4F4B-897A-83A1FB990D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4AE4-BE5E-4F69-B83E-A2AEE8292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C270-E19D-4D20-8E4F-E01267E6B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BB7A-63B8-4CF6-8215-87B09C397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6520-6AFC-46E5-8C28-8B9E57FEBC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5239-C118-452A-A9BA-ABECB66751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A630-1F54-4A12-B1CE-D04DAB6FE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FD41-88E6-4D9A-AC40-AC3FDA97D6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A5F0-70F1-4A61-9482-CE7EA06A37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E66A-A6D1-48D9-BBB1-E130C6B947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A325-7C8E-405A-A1DD-56BE751F84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DF07-9038-4693-9013-F77034AFD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3DD0-C154-431A-8D02-088C0A8CE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0B4-0AF8-4143-B0D8-2ECE19F37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AAA6-6E53-4C77-9608-E7B95BE77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C4C0-23AB-4CC0-B0E2-96595C3360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3F14-7A63-42B9-9FA7-0C104AF22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09D5-BC00-4A68-8694-426B860EF0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D3A2-29AB-4F1B-9BDB-6EBFDFFB3E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9" descr=""/>
          <p:cNvPicPr/>
          <p:nvPr/>
        </p:nvPicPr>
        <p:blipFill>
          <a:blip r:embed="rId1"/>
          <a:stretch/>
        </p:blipFill>
        <p:spPr>
          <a:xfrm>
            <a:off x="790560" y="3000240"/>
            <a:ext cx="75628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69633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8639280" cy="618156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39640" y="1657440"/>
            <a:ext cx="8425080" cy="8935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468360" y="2637000"/>
            <a:ext cx="8424720" cy="8935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324000" y="3514680"/>
            <a:ext cx="4824360" cy="8938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5219640" y="3559320"/>
            <a:ext cx="3673440" cy="8935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309600" y="4479840"/>
            <a:ext cx="2232000" cy="8938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7"/>
          <a:stretch/>
        </p:blipFill>
        <p:spPr>
          <a:xfrm>
            <a:off x="2556000" y="4695840"/>
            <a:ext cx="2232000" cy="500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8"/>
          <a:stretch/>
        </p:blipFill>
        <p:spPr>
          <a:xfrm>
            <a:off x="4788000" y="4667400"/>
            <a:ext cx="2232000" cy="500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9"/>
          <a:stretch/>
        </p:blipFill>
        <p:spPr>
          <a:xfrm>
            <a:off x="7020000" y="4653000"/>
            <a:ext cx="1873080" cy="500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10"/>
          <a:stretch/>
        </p:blipFill>
        <p:spPr>
          <a:xfrm>
            <a:off x="757080" y="5388120"/>
            <a:ext cx="1150920" cy="500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11"/>
          <a:stretch/>
        </p:blipFill>
        <p:spPr>
          <a:xfrm>
            <a:off x="1965240" y="5373720"/>
            <a:ext cx="2175120" cy="500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12"/>
          <a:stretch/>
        </p:blipFill>
        <p:spPr>
          <a:xfrm>
            <a:off x="4211640" y="5373720"/>
            <a:ext cx="3673440" cy="500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13"/>
          <a:stretch/>
        </p:blipFill>
        <p:spPr>
          <a:xfrm>
            <a:off x="7956720" y="5373720"/>
            <a:ext cx="1008000" cy="500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14"/>
          <a:stretch/>
        </p:blipFill>
        <p:spPr>
          <a:xfrm>
            <a:off x="900000" y="5934240"/>
            <a:ext cx="2951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8609" descr=""/>
          <p:cNvPicPr/>
          <p:nvPr/>
        </p:nvPicPr>
        <p:blipFill>
          <a:blip r:embed="rId1"/>
          <a:stretch/>
        </p:blipFill>
        <p:spPr>
          <a:xfrm>
            <a:off x="257040" y="731880"/>
            <a:ext cx="8629920" cy="5505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8028000" y="227664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8028000" y="4508640"/>
            <a:ext cx="561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67585" descr=""/>
          <p:cNvPicPr/>
          <p:nvPr/>
        </p:nvPicPr>
        <p:blipFill>
          <a:blip r:embed="rId1"/>
          <a:stretch/>
        </p:blipFill>
        <p:spPr>
          <a:xfrm>
            <a:off x="290520" y="1085760"/>
            <a:ext cx="8562960" cy="46864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2"/>
          <a:stretch/>
        </p:blipFill>
        <p:spPr>
          <a:xfrm>
            <a:off x="7380360" y="1168560"/>
            <a:ext cx="936720" cy="500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3"/>
          <a:stretch/>
        </p:blipFill>
        <p:spPr>
          <a:xfrm>
            <a:off x="784080" y="3371760"/>
            <a:ext cx="7272360" cy="500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4"/>
          <a:stretch/>
        </p:blipFill>
        <p:spPr>
          <a:xfrm>
            <a:off x="8086680" y="3400560"/>
            <a:ext cx="878040" cy="500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5"/>
          <a:stretch/>
        </p:blipFill>
        <p:spPr>
          <a:xfrm>
            <a:off x="423720" y="4149720"/>
            <a:ext cx="878040" cy="500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6"/>
          <a:stretch/>
        </p:blipFill>
        <p:spPr>
          <a:xfrm>
            <a:off x="1332000" y="4048200"/>
            <a:ext cx="1152360" cy="7491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7"/>
          <a:stretch/>
        </p:blipFill>
        <p:spPr>
          <a:xfrm>
            <a:off x="2484360" y="4048200"/>
            <a:ext cx="4464000" cy="7491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8"/>
          <a:stretch/>
        </p:blipFill>
        <p:spPr>
          <a:xfrm>
            <a:off x="6962760" y="4091040"/>
            <a:ext cx="2181240" cy="500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9"/>
          <a:stretch/>
        </p:blipFill>
        <p:spPr>
          <a:xfrm>
            <a:off x="395280" y="4941720"/>
            <a:ext cx="44640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66561" descr=""/>
          <p:cNvPicPr/>
          <p:nvPr/>
        </p:nvPicPr>
        <p:blipFill>
          <a:blip r:embed="rId1"/>
          <a:stretch/>
        </p:blipFill>
        <p:spPr>
          <a:xfrm>
            <a:off x="547560" y="1933560"/>
            <a:ext cx="8048880" cy="29908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2"/>
          <a:stretch/>
        </p:blipFill>
        <p:spPr>
          <a:xfrm>
            <a:off x="539640" y="308304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453960" y="3645000"/>
            <a:ext cx="2016360" cy="5000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2470320" y="3659040"/>
            <a:ext cx="4981320" cy="5000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7451640" y="3630600"/>
            <a:ext cx="1368360" cy="50004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6"/>
          <a:stretch/>
        </p:blipFill>
        <p:spPr>
          <a:xfrm>
            <a:off x="395280" y="4164120"/>
            <a:ext cx="489744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65537" descr=""/>
          <p:cNvPicPr/>
          <p:nvPr/>
        </p:nvPicPr>
        <p:blipFill>
          <a:blip r:embed="rId1"/>
          <a:stretch/>
        </p:blipFill>
        <p:spPr>
          <a:xfrm>
            <a:off x="361800" y="189000"/>
            <a:ext cx="8591760" cy="442908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65538" descr=""/>
          <p:cNvPicPr/>
          <p:nvPr/>
        </p:nvPicPr>
        <p:blipFill>
          <a:blip r:embed="rId2"/>
          <a:stretch/>
        </p:blipFill>
        <p:spPr>
          <a:xfrm>
            <a:off x="878040" y="4869000"/>
            <a:ext cx="8086680" cy="18288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3"/>
          <a:stretch/>
        </p:blipFill>
        <p:spPr>
          <a:xfrm>
            <a:off x="900000" y="3270240"/>
            <a:ext cx="8064720" cy="500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4"/>
          <a:stretch/>
        </p:blipFill>
        <p:spPr>
          <a:xfrm>
            <a:off x="684360" y="3948120"/>
            <a:ext cx="4679640" cy="500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5"/>
          <a:stretch/>
        </p:blipFill>
        <p:spPr>
          <a:xfrm>
            <a:off x="5435640" y="3846600"/>
            <a:ext cx="3708360" cy="8064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6"/>
          <a:stretch/>
        </p:blipFill>
        <p:spPr>
          <a:xfrm>
            <a:off x="596880" y="4840200"/>
            <a:ext cx="1944720" cy="806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7"/>
          <a:stretch/>
        </p:blipFill>
        <p:spPr>
          <a:xfrm>
            <a:off x="2541600" y="4941720"/>
            <a:ext cx="2174760" cy="500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8"/>
          <a:stretch/>
        </p:blipFill>
        <p:spPr>
          <a:xfrm>
            <a:off x="4759200" y="4998960"/>
            <a:ext cx="4205520" cy="5000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9"/>
          <a:stretch/>
        </p:blipFill>
        <p:spPr>
          <a:xfrm>
            <a:off x="826920" y="5719680"/>
            <a:ext cx="4205520" cy="5000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10"/>
          <a:stretch/>
        </p:blipFill>
        <p:spPr>
          <a:xfrm>
            <a:off x="611280" y="6208560"/>
            <a:ext cx="65530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图片 64513" descr=""/>
          <p:cNvPicPr/>
          <p:nvPr/>
        </p:nvPicPr>
        <p:blipFill>
          <a:blip r:embed="rId1"/>
          <a:stretch/>
        </p:blipFill>
        <p:spPr>
          <a:xfrm>
            <a:off x="314280" y="190440"/>
            <a:ext cx="8629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63489" descr=""/>
          <p:cNvPicPr/>
          <p:nvPr/>
        </p:nvPicPr>
        <p:blipFill>
          <a:blip r:embed="rId1"/>
          <a:stretch/>
        </p:blipFill>
        <p:spPr>
          <a:xfrm>
            <a:off x="500040" y="689040"/>
            <a:ext cx="8143920" cy="61246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209080" cy="5004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8209080" cy="7920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8208720" cy="11523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8208720" cy="5004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6"/>
          <a:stretch/>
        </p:blipFill>
        <p:spPr>
          <a:xfrm>
            <a:off x="539640" y="4437000"/>
            <a:ext cx="8209080" cy="5000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7"/>
          <a:stretch/>
        </p:blipFill>
        <p:spPr>
          <a:xfrm>
            <a:off x="395280" y="4998960"/>
            <a:ext cx="8209080" cy="8064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8"/>
          <a:stretch/>
        </p:blipFill>
        <p:spPr>
          <a:xfrm>
            <a:off x="611280" y="5819760"/>
            <a:ext cx="8208720" cy="5000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9"/>
          <a:stretch/>
        </p:blipFill>
        <p:spPr>
          <a:xfrm>
            <a:off x="539640" y="6343560"/>
            <a:ext cx="82090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62465" descr=""/>
          <p:cNvPicPr/>
          <p:nvPr/>
        </p:nvPicPr>
        <p:blipFill>
          <a:blip r:embed="rId1"/>
          <a:stretch/>
        </p:blipFill>
        <p:spPr>
          <a:xfrm>
            <a:off x="566640" y="750960"/>
            <a:ext cx="8010720" cy="5991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468360" y="70812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395280" y="126828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324000" y="227664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250920" y="2781360"/>
            <a:ext cx="2592360" cy="5000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2916360" y="2751120"/>
            <a:ext cx="5759280" cy="5000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468360" y="3284640"/>
            <a:ext cx="5759280" cy="500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395280" y="380376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0"/>
          <a:stretch/>
        </p:blipFill>
        <p:spPr>
          <a:xfrm>
            <a:off x="250920" y="4321080"/>
            <a:ext cx="8424720" cy="5000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1"/>
          <a:stretch/>
        </p:blipFill>
        <p:spPr>
          <a:xfrm>
            <a:off x="324000" y="4811760"/>
            <a:ext cx="8424720" cy="9223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2"/>
          <a:stretch/>
        </p:blipFill>
        <p:spPr>
          <a:xfrm>
            <a:off x="468360" y="5719680"/>
            <a:ext cx="8207280" cy="5000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13"/>
          <a:stretch/>
        </p:blipFill>
        <p:spPr>
          <a:xfrm>
            <a:off x="395280" y="6315120"/>
            <a:ext cx="820728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5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0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4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61441" descr=""/>
          <p:cNvPicPr/>
          <p:nvPr/>
        </p:nvPicPr>
        <p:blipFill>
          <a:blip r:embed="rId1"/>
          <a:stretch/>
        </p:blipFill>
        <p:spPr>
          <a:xfrm>
            <a:off x="581040" y="1919160"/>
            <a:ext cx="7981920" cy="30196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4"/>
          <a:stretch/>
        </p:blipFill>
        <p:spPr>
          <a:xfrm>
            <a:off x="468360" y="292428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5"/>
          <a:stretch/>
        </p:blipFill>
        <p:spPr>
          <a:xfrm>
            <a:off x="468360" y="342900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6"/>
          <a:stretch/>
        </p:blipFill>
        <p:spPr>
          <a:xfrm>
            <a:off x="539640" y="3932280"/>
            <a:ext cx="8136000" cy="500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7"/>
          <a:stretch/>
        </p:blipFill>
        <p:spPr>
          <a:xfrm>
            <a:off x="539640" y="4437000"/>
            <a:ext cx="8136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57040" y="928800"/>
            <a:ext cx="8629920" cy="5000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692360" y="3529080"/>
            <a:ext cx="1224000" cy="8650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900000" y="5329080"/>
            <a:ext cx="56196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59410" descr=""/>
          <p:cNvPicPr/>
          <p:nvPr/>
        </p:nvPicPr>
        <p:blipFill>
          <a:blip r:embed="rId1"/>
          <a:stretch/>
        </p:blipFill>
        <p:spPr>
          <a:xfrm>
            <a:off x="252360" y="728640"/>
            <a:ext cx="8639280" cy="5400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8101080" y="134136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8028000" y="4724280"/>
            <a:ext cx="561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8373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8648640" cy="5371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7956720" y="90792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8028000" y="306864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755640" y="5172120"/>
            <a:ext cx="136836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7352" descr=""/>
          <p:cNvPicPr/>
          <p:nvPr/>
        </p:nvPicPr>
        <p:blipFill>
          <a:blip r:embed="rId1"/>
          <a:stretch/>
        </p:blipFill>
        <p:spPr>
          <a:xfrm>
            <a:off x="237960" y="1709640"/>
            <a:ext cx="8668080" cy="34387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6804000" y="1700280"/>
            <a:ext cx="1081080" cy="865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935280" cy="500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7524720" y="3832200"/>
            <a:ext cx="1440000" cy="500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826920" y="4653000"/>
            <a:ext cx="144000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6324" descr=""/>
          <p:cNvPicPr/>
          <p:nvPr/>
        </p:nvPicPr>
        <p:blipFill>
          <a:blip r:embed="rId1"/>
          <a:stretch/>
        </p:blipFill>
        <p:spPr>
          <a:xfrm>
            <a:off x="324000" y="766800"/>
            <a:ext cx="8496000" cy="5324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042920" y="2952720"/>
            <a:ext cx="2089080" cy="500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669960" y="5129280"/>
            <a:ext cx="5111640" cy="963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5767560" y="5157720"/>
            <a:ext cx="3052440" cy="9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5300" descr=""/>
          <p:cNvPicPr/>
          <p:nvPr/>
        </p:nvPicPr>
        <p:blipFill>
          <a:blip r:embed="rId1"/>
          <a:stretch/>
        </p:blipFill>
        <p:spPr>
          <a:xfrm>
            <a:off x="561960" y="1262160"/>
            <a:ext cx="8020080" cy="4333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539640" y="2449440"/>
            <a:ext cx="8209080" cy="763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64960" y="3414600"/>
            <a:ext cx="2017800" cy="763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2268360" y="3386160"/>
            <a:ext cx="6407280" cy="763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468360" y="4365720"/>
            <a:ext cx="64072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4276" descr=""/>
          <p:cNvPicPr/>
          <p:nvPr/>
        </p:nvPicPr>
        <p:blipFill>
          <a:blip r:embed="rId1"/>
          <a:stretch/>
        </p:blipFill>
        <p:spPr>
          <a:xfrm>
            <a:off x="299880" y="1214280"/>
            <a:ext cx="8544240" cy="44294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611280" y="2781360"/>
            <a:ext cx="8281800" cy="7920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95280" y="3774960"/>
            <a:ext cx="3456000" cy="792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3851280" y="3774960"/>
            <a:ext cx="1728720" cy="792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651640" y="3905280"/>
            <a:ext cx="3241440" cy="500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611280" y="4724280"/>
            <a:ext cx="324144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52231" descr=""/>
          <p:cNvPicPr/>
          <p:nvPr/>
        </p:nvPicPr>
        <p:blipFill>
          <a:blip r:embed="rId1"/>
          <a:stretch/>
        </p:blipFill>
        <p:spPr>
          <a:xfrm>
            <a:off x="325440" y="189000"/>
            <a:ext cx="8639280" cy="63720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826920" y="2693880"/>
            <a:ext cx="8137800" cy="8654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611280" y="3587760"/>
            <a:ext cx="4681440" cy="8650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292720" y="3645000"/>
            <a:ext cx="3166920" cy="8650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8582040" y="3789360"/>
            <a:ext cx="561960" cy="5000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6"/>
          <a:stretch/>
        </p:blipFill>
        <p:spPr>
          <a:xfrm>
            <a:off x="755640" y="4624560"/>
            <a:ext cx="3095640" cy="10364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7"/>
          <a:stretch/>
        </p:blipFill>
        <p:spPr>
          <a:xfrm>
            <a:off x="3879720" y="4797360"/>
            <a:ext cx="2563920" cy="5000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8"/>
          <a:stretch/>
        </p:blipFill>
        <p:spPr>
          <a:xfrm>
            <a:off x="6516720" y="4854600"/>
            <a:ext cx="2448000" cy="500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9"/>
          <a:stretch/>
        </p:blipFill>
        <p:spPr>
          <a:xfrm>
            <a:off x="900000" y="5675400"/>
            <a:ext cx="244800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12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